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8839080" cy="6324480"/>
          </a:xfrm>
          <a:prstGeom prst="rect">
            <a:avLst/>
          </a:prstGeom>
          <a:noFill/>
          <a:ln w="25560">
            <a:solidFill>
              <a:srgbClr val="790015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532560" y="152280"/>
            <a:ext cx="783000" cy="686160"/>
          </a:xfrm>
          <a:custGeom>
            <a:avLst/>
            <a:gdLst/>
            <a:ahLst/>
            <a:rect l="0" t="0" r="r" b="b"/>
            <a:pathLst>
              <a:path w="2175" h="1906">
                <a:moveTo>
                  <a:pt x="0" y="0"/>
                </a:moveTo>
                <a:lnTo>
                  <a:pt x="2175" y="0"/>
                </a:lnTo>
                <a:lnTo>
                  <a:pt x="1087" y="1906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00800" y="76320"/>
            <a:ext cx="783000" cy="686160"/>
          </a:xfrm>
          <a:custGeom>
            <a:avLst/>
            <a:gdLst/>
            <a:ahLst/>
            <a:rect l="0" t="0" r="r" b="b"/>
            <a:pathLst>
              <a:path w="2175" h="1906">
                <a:moveTo>
                  <a:pt x="0" y="0"/>
                </a:moveTo>
                <a:lnTo>
                  <a:pt x="2175" y="0"/>
                </a:lnTo>
                <a:lnTo>
                  <a:pt x="1087" y="1906"/>
                </a:lnTo>
                <a:lnTo>
                  <a:pt x="0" y="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24080" y="6037200"/>
            <a:ext cx="783000" cy="686160"/>
          </a:xfrm>
          <a:custGeom>
            <a:avLst/>
            <a:gdLst/>
            <a:ahLst/>
            <a:rect l="0" t="0" r="r" b="b"/>
            <a:pathLst>
              <a:path w="2175" h="1906">
                <a:moveTo>
                  <a:pt x="0" y="1906"/>
                </a:moveTo>
                <a:lnTo>
                  <a:pt x="2175" y="1906"/>
                </a:lnTo>
                <a:lnTo>
                  <a:pt x="1087" y="0"/>
                </a:lnTo>
                <a:lnTo>
                  <a:pt x="0" y="1906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01960" y="5943600"/>
            <a:ext cx="783000" cy="686160"/>
          </a:xfrm>
          <a:custGeom>
            <a:avLst/>
            <a:gdLst/>
            <a:ahLst/>
            <a:rect l="0" t="0" r="r" b="b"/>
            <a:pathLst>
              <a:path w="2175" h="1906">
                <a:moveTo>
                  <a:pt x="0" y="1906"/>
                </a:moveTo>
                <a:lnTo>
                  <a:pt x="2175" y="1906"/>
                </a:lnTo>
                <a:lnTo>
                  <a:pt x="1087" y="0"/>
                </a:lnTo>
                <a:lnTo>
                  <a:pt x="0" y="1906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19810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STANDARDS</a:t>
            </a: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for </a:t>
            </a: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Technolog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0" y="3962520"/>
            <a:ext cx="4495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CTTE/Technology Teacher Educat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TEA Conference-March 30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05120"/>
            <a:ext cx="3581280" cy="2743200"/>
          </a:xfrm>
          <a:prstGeom prst="rect">
            <a:avLst/>
          </a:prstGeom>
          <a:solidFill>
            <a:srgbClr val="eaec5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838080"/>
            <a:ext cx="3809880" cy="25146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809880"/>
            <a:ext cx="3733920" cy="2514600"/>
          </a:xfrm>
          <a:prstGeom prst="rect">
            <a:avLst/>
          </a:prstGeom>
          <a:solidFill>
            <a:srgbClr val="a3f25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98560" y="2270160"/>
            <a:ext cx="31050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474747"/>
                </a:solidFill>
                <a:uFillTx/>
                <a:latin typeface="Times New Roman"/>
                <a:ea typeface="Times New Roman"/>
              </a:rPr>
              <a:t>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474747"/>
                </a:solidFill>
                <a:uFillTx/>
                <a:latin typeface="Times New Roman"/>
                <a:ea typeface="Times New Roman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474747"/>
                </a:solidFill>
                <a:uFillTx/>
                <a:latin typeface="Times New Roman"/>
                <a:ea typeface="Times New Roman"/>
              </a:rPr>
              <a:t>Technolog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vailabl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286000"/>
            <a:ext cx="761760" cy="0"/>
          </a:xfrm>
          <a:prstGeom prst="line">
            <a:avLst/>
          </a:prstGeom>
          <a:ln w="1260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267080"/>
            <a:ext cx="761760" cy="0"/>
          </a:xfrm>
          <a:prstGeom prst="line">
            <a:avLst/>
          </a:prstGeom>
          <a:ln w="1260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13360" y="1355760"/>
            <a:ext cx="36385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ad6900"/>
                </a:solidFill>
                <a:uFillTx/>
                <a:latin typeface="Times New Roman"/>
                <a:ea typeface="Times New Roman"/>
              </a:rPr>
              <a:t>Professional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ad6900"/>
                </a:solidFill>
                <a:uFillTx/>
                <a:latin typeface="Times New Roman"/>
                <a:ea typeface="Times New Roman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d6900"/>
                </a:solidFill>
                <a:latin typeface="Times New Roman"/>
                <a:ea typeface="Times New Roman"/>
              </a:rPr>
              <a:t>Available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65640" y="3946680"/>
            <a:ext cx="33336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63de8"/>
                </a:solidFill>
                <a:uFillTx/>
                <a:latin typeface="Times New Roman"/>
                <a:ea typeface="Times New Roman"/>
              </a:rPr>
              <a:t>CTTE Year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echnology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he Ro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eacher Educ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vailable in 2001/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9080" y="212760"/>
            <a:ext cx="63086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mplementing Technology Education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eacher Education Progr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114800" y="5486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htpp://www.iteawww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040" y="743040"/>
            <a:ext cx="7601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3c0023"/>
                </a:solidFill>
                <a:latin typeface="Verdana"/>
                <a:ea typeface="Verdana"/>
              </a:rPr>
              <a:t>Technology for All Americans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3960" y="2133720"/>
            <a:ext cx="769608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dminister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474747"/>
                </a:solidFill>
                <a:latin typeface="Wide Latin"/>
                <a:ea typeface="Wide Latin"/>
              </a:rPr>
              <a:t>International Technology Education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70080" y="228600"/>
            <a:ext cx="7493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Fund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2077920"/>
            <a:ext cx="663588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National Science Foundation (NS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3292560"/>
            <a:ext cx="7296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National Aeronautics and Space Administration (NA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1960" y="525600"/>
            <a:ext cx="7081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Phase I</a:t>
            </a:r>
            <a:br>
              <a:rPr sz="4400"/>
            </a:br>
            <a:r>
              <a:rPr b="0" lang="en-US" sz="32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(October 1994 - September 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2571840"/>
            <a:ext cx="5313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30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echnology for All America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0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 Rationale and Structure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0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Study of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27040" y="754200"/>
            <a:ext cx="7081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Phase II</a:t>
            </a:r>
            <a:br>
              <a:rPr sz="4400"/>
            </a:br>
            <a:r>
              <a:rPr b="1" i="1" lang="en-US" sz="32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(October 1996 - September 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6080" y="3330720"/>
            <a:ext cx="6772320" cy="12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tandards for Technology Edu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Content for the Stud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K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533520"/>
            <a:ext cx="77724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What Should Technology Teacher Programs Do </a:t>
            </a:r>
            <a:r>
              <a:rPr b="0" lang="en-US" sz="3600" spc="-1" strike="noStrike" u="sng">
                <a:solidFill>
                  <a:srgbClr val="3c0023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Standards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Come Out? (1999 - 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Visit TfAAP Webpage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nalyze Your Undergraduat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nform Administration about </a:t>
            </a: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velop &amp; Implement Recruit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320" y="533520"/>
            <a:ext cx="77724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What Should </a:t>
            </a: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Technology Teacher Programs Do </a:t>
            </a:r>
            <a:r>
              <a:rPr b="0" lang="en-US" sz="3600" spc="-1" strike="noStrike" u="sng">
                <a:solidFill>
                  <a:srgbClr val="3c0023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Standards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Come Out? (2000 - 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220968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Obtain a Copy of the </a:t>
            </a:r>
            <a:r>
              <a:rPr b="0" i="1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tandards</a:t>
            </a: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 for All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signate Faculty to Attend TfAAP Implement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Conduct Training Sessions for All the Faculty on the </a:t>
            </a:r>
            <a:r>
              <a:rPr b="0" i="1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velop Short &amp; Long Range Plan for Revising Undergraduate Degre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2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37160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Revise Undergraduate Program Requirements Based 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Obtain University Support for Changes i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mplement New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Evaluate Program on On-going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Monitor and Updat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Recruit Throughout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nitiate Public Relations and “Toot-Your-Own-Horn” on New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8080" y="3124080"/>
            <a:ext cx="777240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What Should</a:t>
            </a: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Technology Teacher Programs </a:t>
            </a: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Do </a:t>
            </a:r>
            <a:r>
              <a:rPr b="0" lang="en-US" sz="3600" spc="-1" strike="noStrike" u="sng">
                <a:solidFill>
                  <a:srgbClr val="3c0023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 the </a:t>
            </a:r>
            <a:br>
              <a:rPr sz="3600"/>
            </a:br>
            <a:r>
              <a:rPr b="0" i="1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Professional Development Standards </a:t>
            </a: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Come Out? </a:t>
            </a:r>
            <a:br>
              <a:rPr sz="3600"/>
            </a:br>
            <a:r>
              <a:rPr b="0" lang="en-US" sz="36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(2002 - 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2280" y="114300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Monitor Progress of Development of </a:t>
            </a: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Professional Development Standards </a:t>
            </a: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PDS</a:t>
            </a: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Get on Review Process of  </a:t>
            </a: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P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fter </a:t>
            </a:r>
            <a:r>
              <a:rPr b="0" i="1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PDS</a:t>
            </a: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 is Released, Compare Them with Your Revis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Revise Undergraduate Program if Approp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Evaluate on an On-going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eek NCATE Accreditation o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As technology content increases and changes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What We’ve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143000"/>
            <a:ext cx="8839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echnology is the subject matter, while technology education is the means of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study of technology includes both knowing and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velopment of technological literacy takes time and requires an articulated curriculum structure from Grades K-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Science is a study of the natural world and technology is a study of how humans modify that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4920" y="572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Publ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70080" y="1230480"/>
            <a:ext cx="751356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ITEA &amp; TfAAP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3005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http://www.iteawww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3005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http://scholar.lib.vt.edu/TAA/TA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Newsletters/broch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9001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Articles in professional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0680" y="3124080"/>
            <a:ext cx="88470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Summar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...so must a teacher’s understanding and ability in technology also keep p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Prospective and practicing teachers must learn about technology through a stud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205740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63003b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natur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3003b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design, development, and use of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3003b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technologic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3003b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 impacts of technology on society an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hese teachers must have the same opportunities as their students will have to develop their understanding and 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0"/>
            <a:ext cx="7772400" cy="30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The current reform effort in education requires substantative change in how technology is taught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0"/>
            <a:ext cx="77724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...and equally substantative change is needed in professional development practi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0"/>
            <a:ext cx="7772400" cy="30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The challenge to teacher education programs is to create optimal collaborative learning situation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0"/>
            <a:ext cx="77724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3c0023"/>
                </a:solidFill>
                <a:latin typeface="Times New Roman"/>
                <a:ea typeface="Times New Roman"/>
              </a:rPr>
              <a:t>...where the best sources of expertise are linked with teacher’s experiences and n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 B. Newberry</dc:creator>
  <dc:description>Presentation for general use by the Project</dc:description>
  <dc:language>en-US</dc:language>
  <cp:lastModifiedBy>Technology for All Americans Project</cp:lastModifiedBy>
  <cp:revision>0</cp:revision>
  <dc:subject>NAESP Conference March 19 &amp; 20, 1999</dc:subject>
  <dc:title>Standards Overview Presentation  </dc:title>
</cp:coreProperties>
</file>